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DEF-DFBD-47B9-84E9-B6881FD6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C7B-4E02-4039-BDE4-EE2CF87E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E5B-4B72-4796-A10D-67CB0BCE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D40-7B2C-4FF0-AE3B-6D91569D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D489-8D3E-4E0A-98D8-F2A597C7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249E-C999-4E8A-A92E-20ED45A3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4C7A-921A-4C77-8A88-5A4D52DF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14F7-7AC7-4A3F-8CFD-D1EDAEED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E958-56D2-4619-91D4-708A4973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405F-54E6-4CFB-B3C2-4D4EAE78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578A-CE09-4A58-BBA6-0A9C9A18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C4C-05C4-4292-A3DD-76FCAA4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D04D-1DF8-4449-9A0B-C8230BF6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CDDF-B386-459F-9E4B-BB382019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B411-578E-4E38-A8CB-73590FDA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AC5D-E596-4B76-AC95-73A7F4A9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7BDB-3754-4391-95CE-457BD106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602-FDE1-454B-983A-0482C436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FB3-6C16-4DCC-8BA1-F3928EF1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460-5BBB-49E7-8212-F585FD79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5B6-B65E-4AE7-A47E-6C8BAC90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CDE-F1D8-4FF6-9762-92347429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251-FBED-4220-8F67-8F7323F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71A-6BDF-444C-B184-ADB5C9E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B05E-E4F6-4FA6-9B01-7751266E86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3672-1ACD-4D77-A9B4-047FE1CD06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dule 3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8820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sychological Therapies &amp; Biomedical Therap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valuating Psychotherap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 points to consider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굴림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cebo eff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ression towards the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will likely return to our “average state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ts of evidence to support thi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test sc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bel Prize winners experience diminished accomplish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orts Illustrated Jin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 Psychotherapy Effectiv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2383920"/>
            <a:ext cx="8001000" cy="36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ents’ Percep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nicians’ Percep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utcome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 likely to experience improvement, b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굴림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343160" y="712800"/>
            <a:ext cx="6451560" cy="5435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People Turn for Hel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55480" y="928800"/>
            <a:ext cx="8026560" cy="500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vs. No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Relative Effectiveness of Different Therap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valuating Alternative Therap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apeutic Touch: 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ye Movement Desensitization and Reprocessing (EMDR): Mayb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ght-Exposure Therapy: Y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555480" y="1246320"/>
            <a:ext cx="80265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2282760" y="712800"/>
            <a:ext cx="4572000" cy="5435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he Energy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monalities Among Psychotherap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pe for Demoralized Peo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New Perspecti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Empathic, Trusting, Caring Relationsh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609480" y="403200"/>
            <a:ext cx="8001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Psychological Therap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lture and Values in Psychotherap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llenges for a therapist from one culture addressing a client from anoth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Biomedical Therap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g Therap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2859120"/>
            <a:ext cx="800100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tipsychotic Dru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ti-anxiety Dru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tidepressant Dru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1434960"/>
            <a:ext cx="9144000" cy="39942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mptying of U.S. Mental Hospit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y of 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ectroconvulsive Therap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286000" y="0"/>
            <a:ext cx="476712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sychosurge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1089000" y="712800"/>
            <a:ext cx="6959520" cy="54356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d-Body Inte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굴림"/>
              </a:rPr>
              <a:t>Preventing Psychological Disord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sycho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: id-ego-superego conflict resolu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hods: free association/ identifying resistance, seeking transference/ creating interpre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sychodynamic Therapy: face to f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16216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umanistic Therap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l Rogers’ client-centered therap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tening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굴림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enuine, accepting, and empatheti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ent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굴림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not patient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굴림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works out their issu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굴림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aphra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굴림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viting clarif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lecting feel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havior Therap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assical Conditioning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unter-conditi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ystematic Desensitiza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gressive relax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reality exposure thera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versive Condition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erant Condition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ken economy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굴림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“extrinsic rewards” versus “intrinsic rewards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2193840" y="712800"/>
            <a:ext cx="4749840" cy="5435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sion Therapy for Alcoh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gnitive Therap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umes: thinking colors our feelings (see depressio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굴림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ess inoculation training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굴림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estructure thinking in stressful situ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rame”: negative to posi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1279440" y="712800"/>
            <a:ext cx="65786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gnitive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1343160" y="712800"/>
            <a:ext cx="6451560" cy="54356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gnitive Perspective on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16:36:18Z</dcterms:created>
  <dc:creator>bfw</dc:creator>
  <dc:description/>
  <dc:language>en-US</dc:language>
  <cp:lastModifiedBy>Lessard</cp:lastModifiedBy>
  <dcterms:modified xsi:type="dcterms:W3CDTF">2009-01-11T09:40:41Z</dcterms:modified>
  <cp:revision>6</cp:revision>
  <dc:subject/>
  <dc:title>Module 48 The Psychological Therapies</dc:title>
</cp:coreProperties>
</file>